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9A687-6003-4966-918E-E28E4825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B1822-C72B-4295-87BB-4B863A32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D3001-12A5-460B-BC7B-AE3E8754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54165-C2EA-45F4-A4D7-AF83BBB2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B8DE-7572-4E07-B691-4CA8F719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383C-2BFE-4EC6-BBDD-C04B47D2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7370-FF73-4CAF-8648-AFF618BA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2E7D-166F-45BB-964A-86C6A033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950C-D71A-4DEF-81C2-2157624F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1325-409D-405F-9A9E-6394F29C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AE18-1ECE-4B54-A3CF-5E251DA5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386E1-34B6-4B3E-9E96-E1B51150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6C46-BB19-40D0-88C8-04D0781C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DAF3-C583-4BED-B008-A52B58DC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DABB-68E1-4378-8386-89F4082D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C343-47FC-4889-B564-BC6CF86A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410D-D87E-43EF-A89C-EBE84BF6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50E0F-4DB6-464C-A010-5C4EFDCA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6A744-673C-4409-81F0-AB20EF01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9BCC2-58CF-400C-ABA8-68FACEC3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F1BB9-6F25-4821-94E1-422DE87A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DFBE8-8F04-49A6-939A-F6BD924B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D0E1E-A1E5-4447-8DCF-94B46E79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5EFFF-3E19-4AFE-B5D3-C0BC11DF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6C7F-B04A-4186-8DF8-0ECC4C62886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DEB0-E239-4BB0-A65B-99E86BA4127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Vocabulary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telyn !!!(: Brandie!!! (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s. Chamb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ecimal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eriod that separate the whole number from a frac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6.1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raction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 part of a group, Number or who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ercent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A number out of a hundr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3:58:57Z</dcterms:created>
  <dc:creator>katelyn.marshall</dc:creator>
  <dc:description/>
  <dc:language>en-US</dc:language>
  <cp:lastModifiedBy>katelyn.marshall</cp:lastModifiedBy>
  <dcterms:modified xsi:type="dcterms:W3CDTF">2010-11-23T14:34:51Z</dcterms:modified>
  <cp:revision>2</cp:revision>
  <dc:subject/>
  <dc:title>Slide 1</dc:title>
</cp:coreProperties>
</file>